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04B-7B37-4B52-ABC8-DFF20F3F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FC2C-65F4-4236-BC49-53C8D932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D734-A310-429F-BDF1-B134E9C1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A6C3-DBB6-4D0B-91C5-2624A5E5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72E0-9D63-4407-AD92-0EA5BF07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AC9-3C6F-4639-B4DA-7C0A393A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99C7-9E58-4607-AAB9-9D05DB31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AFB-768C-4BB0-B1FE-C46BC87D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BC55-BCF0-4BF8-8399-F1BE75E4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35B-C752-4D78-9245-0F794BE7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72E-3523-4709-9EFE-2BAB0278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F40-0D92-4A6D-811C-4ABD320E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0562-E035-4022-AD44-4ACDF23FEB0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Valenti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arol Ann Duff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eth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latin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840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dead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a valuable silver-coloured metal that does not tarnish</a:t>
            </a:r>
            <a:r>
              <a:rPr b="0" lang="en-GB" sz="2800" spc="-1" strike="noStrike">
                <a:solidFill>
                  <a:srgbClr val="00008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4920" y="162864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im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2728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hrase used to make 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ption more vivid by using ‘like’ or ‘as’ to compare two th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rect comparison between two things without using ‘like’ or ‘as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4:26:17Z</dcterms:modified>
  <cp:revision>18</cp:revision>
  <dc:subject/>
  <dc:title>La Belle Dame Sans Merci</dc:title>
</cp:coreProperties>
</file>